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E51-A78F-493F-99B6-9B9932F4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210-AE7A-41EC-A57E-03207DF7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ABD6-2914-4011-8D96-7F459CDA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A21-9FBD-484B-A7A4-362924C0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223-319F-4F10-B4CD-A07A7D16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056-158D-426A-9E9C-2EB8E1A7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64E4-62B9-4FB1-B6FE-D4700AFC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CBD4-CD8A-40DB-8924-41582671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3E7F-5796-4E01-9A58-5C405EB2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333-2D67-49E1-8798-729648C6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0589-1378-4600-B1CD-BC7FD627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293-761B-45B2-A85B-B3993A39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3D4E-DB76-4C8D-8F99-B1C73CEC3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914040"/>
            <a:ext cx="845208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eeeee"/>
                </a:solidFill>
                <a:latin typeface="verdana"/>
              </a:rPr>
              <a:t>Chado on Rail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8840" y="2437920"/>
            <a:ext cx="9434520" cy="69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a framework to simplify development on the Chado schem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 </a:t>
            </a:r>
            <a:r>
              <a:rPr b="0" lang="en-US" sz="3800" spc="-1" strike="noStrike">
                <a:solidFill>
                  <a:srgbClr val="999999"/>
                </a:solidFill>
                <a:latin typeface="Trebuchet MS"/>
              </a:rPr>
              <a:t>Justin Reese / Chris Childer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Quick rails anatomy less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6160" y="1117080"/>
            <a:ext cx="9664560" cy="71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odel files live in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models/[model_name].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Controller files live i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controllers/[model_name]_controller.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View files live i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trunk/app/views/[model_name]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One important config fil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config/database.yml - describes db con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0"/>
            <a:ext cx="966456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Legacy Chado support - things to chan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523880"/>
            <a:ext cx="966456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"Feature" model as an example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feature.rb 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This line tells Chado to look for features in table "feature", not table "features"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et_table_name "feature"  #default is "featu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This line tells Chado to use "feature_id" not "id" as primary ke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et_primary_key "feature_id"   # default is "id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rebuchet ms"/>
              </a:rPr>
              <a:t>Repeat for each Chado tables we wil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Hooking up tables to each other ("associations"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680" y="1832040"/>
            <a:ext cx="96645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Feature -- belongs to --&gt; Cvte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vterm &lt;-- has many -- featu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Eas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feature.rb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, add thi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belongs_to :cvte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in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trunk/app/models/cvterm.rb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, add thi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has_many :features, :foreign_key =&gt; "type_id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880560" cy="13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We now have a powerful Chado conso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64560" cy="69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Example: show me the name of the CV for the last thing loaded into Chado feature t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(try out by starting up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 trunk/script/console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)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Before, using SQL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SELECT cv.name FROM cv, cvterm, feature WHERE cv.cv_id = cvterm.cv_id AND cvterm.cvterm_id = feature.type_id ORDER BY feature_id DESC LIMIT 1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After, using Rail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Feature.find(:last).cvterm.cv.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Example app: 5 min. Chado gene p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6160" y="1117080"/>
            <a:ext cx="964224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model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done alread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controller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make controller, write method to load up gene of interest into variabl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[~/chado_on_rails/trunk] jtr4v$ ./script/generate controller gene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app/controll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app/help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views/gene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test/functional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exists  test/unit/helpers/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controllers/gene_controller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test/functional/gene_controller_test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app/helpers/gene_helper.rb</a:t>
            </a:r>
            <a:br>
              <a:rPr sz="1300"/>
            </a:br>
            <a:r>
              <a:rPr b="0" lang="en-US" sz="1300" spc="-1" strike="noStrike">
                <a:solidFill>
                  <a:srgbClr val="cccccc"/>
                </a:solidFill>
                <a:latin typeface="trebuchet ms"/>
              </a:rPr>
              <a:t>      create  test/unit/helpers/gene_helper_test.r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then add this to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trunk/app/controllers/gene_controller.rb: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def sh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    </a:t>
            </a: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@gene = Feature.find(params[:id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cccc"/>
                </a:solidFill>
                <a:latin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view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: 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add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trunk/app/views/gene/show.html.erb</a:t>
            </a: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, present some gene info to user (next slid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Simple view for gene p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6160" y="1320480"/>
            <a:ext cx="9664560" cy="58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= render :partial =&gt; 'header'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if @gene.nil? %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There is no record for feature id &lt;%= params[:id]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else %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ul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Name: &lt;%= @gene.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Uniquename: &lt;%= @gene.unique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Feature id: &lt;%= @gene.feature_id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Cvterm: &lt;%= @gene.cvterm.name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Organism: &lt;%= "#{@gene.organism.genus} #{@gene.organism.species}" %&gt;&lt;/li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li&gt;Time last modified: &lt;%= @gene.timelastmodified %&gt;&lt;/li&gt; 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/ul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 end %&gt;</a:t>
            </a:r>
            <a:br>
              <a:rPr sz="1900"/>
            </a:b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br/&gt;</a:t>
            </a:r>
            <a:br>
              <a:rPr sz="1900"/>
            </a:br>
            <a:r>
              <a:rPr b="0" lang="en-US" sz="1900" spc="-1" strike="noStrike">
                <a:solidFill>
                  <a:srgbClr val="cccccc"/>
                </a:solidFill>
                <a:latin typeface="courier new"/>
              </a:rPr>
              <a:t>&lt;%= render :partial =&gt; 'footer' %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101520"/>
            <a:ext cx="966456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Chado on Rails + Chado db + 19 lines of code = gene pages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1520" y="2844720"/>
            <a:ext cx="9925200" cy="6583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881360" y="1622520"/>
            <a:ext cx="7921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http://0.0.0.0:3000/gene/show/1703004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101160"/>
            <a:ext cx="967104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Mature BGD genes p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64560" cy="54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http://genomes.arc.georgetown.edu/bovine/genepages/genes/BT1060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06440" y="18288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7680" y="202680"/>
            <a:ext cx="967104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Tes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7680" y="1112400"/>
            <a:ext cx="978696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Rails ships with sophisticated testing suite (a whole other talk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Chado on Rails contains unit tests for associations, other reality check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Easy to add more sophisticated tests (functional, etc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</a:t>
            </a:r>
            <a:r>
              <a:rPr b="0" lang="en-US" sz="2700" spc="-1" strike="noStrike">
                <a:solidFill>
                  <a:srgbClr val="cccccc"/>
                </a:solidFill>
                <a:latin typeface="courier new"/>
              </a:rPr>
              <a:t>rake 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7680" y="4064040"/>
            <a:ext cx="967104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Cach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8840" y="5181480"/>
            <a:ext cx="932004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dd one line in controller to cache gene pages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  </a:t>
            </a:r>
            <a:r>
              <a:rPr b="0" lang="en-US" sz="2100" spc="-1" strike="noStrike">
                <a:solidFill>
                  <a:srgbClr val="cccccc"/>
                </a:solidFill>
                <a:latin typeface="courier new"/>
              </a:rPr>
              <a:t>caches_page :show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cc"/>
                </a:solidFill>
                <a:latin typeface="trebuchet ms"/>
              </a:rPr>
              <a:t>-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 More sophisticated caching (expire cache after x days, caching expensive queries, etc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Deployment - a non-issu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Used to be a major weakness of Rai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Passenger Phusion + Capistrano provide dead-easy deployment, plays nicely with Apache and Nginx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Fairly easy to set up staging environments to try out new relea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6160" y="406080"/>
            <a:ext cx="967104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Some links: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726920"/>
            <a:ext cx="10212480" cy="56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These sli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http://tinyurl.com/chadoon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Source code, have a loo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cccccc"/>
                </a:solidFill>
                <a:latin typeface="courier new"/>
              </a:rPr>
              <a:t>svn co http://chadoonrails.rubyforge.org/svn/trunk</a:t>
            </a:r>
            <a:r>
              <a:rPr b="0" lang="en-US" sz="2900" spc="-1" strike="noStrike">
                <a:solidFill>
                  <a:srgbClr val="cccccc"/>
                </a:solidFill>
                <a:latin typeface="courier new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Other applications   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7680" y="1523880"/>
            <a:ext cx="9671040" cy="56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Powerful framework for the development of applications on top of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Ideas for possible application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Help available from me, Chris, Rails community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http://rubyforge.org/projects/chadoonrails/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there's another dead project by the same nam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Justin Rees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justaddcoffee@gmail.co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 Chris Childer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genetics.guy@gmail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Arial"/>
              </a:rPr>
              <a:t>Thank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78000" y="1828800"/>
            <a:ext cx="9661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ris Chil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ris Elsi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Jay Sundara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Darren Hag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Monica Mu</a:t>
            </a:r>
            <a:r>
              <a:rPr b="0" i="1" lang="en-US" sz="2700" spc="-1" strike="noStrike">
                <a:solidFill>
                  <a:srgbClr val="cccccc"/>
                </a:solidFill>
                <a:latin typeface="Arial"/>
              </a:rPr>
              <a:t>ñoz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-Torre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Steve Sh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Anna Bennet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Shu Ta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Don V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The Big Ide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320840"/>
            <a:ext cx="968040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       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ado databas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de facto standard in bioinformatic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        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                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                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            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\ 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          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Chado on Rail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        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  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          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|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                    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\ /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              </a:t>
            </a: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Your applicati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Arial"/>
              </a:rPr>
              <a:t>(gene pages, GFF loader, anything that needs to talk to Cha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6160" y="203040"/>
            <a:ext cx="9671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This time last year...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6080" y="1108080"/>
            <a:ext cx="9657000" cy="61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Bovine Genome Database status talk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cccc"/>
                </a:solidFill>
                <a:uFillTx/>
                <a:latin typeface="Trebuchet MS"/>
              </a:rPr>
              <a:t>no gene pa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27280" y="1727280"/>
            <a:ext cx="628632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How to implement gene pages?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couldn't find existing tool that fit our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why not roll our own?</a:t>
            </a:r>
            <a:br>
              <a:rPr sz="3200"/>
            </a:b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rebuchet MS"/>
              </a:rPr>
              <a:t>- why not use Ruby on Rail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203040"/>
            <a:ext cx="967248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eeeeee"/>
                </a:solidFill>
                <a:latin typeface="Trebuchet MS"/>
              </a:rPr>
              <a:t>The case for Ruby on Rail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" y="1117080"/>
            <a:ext cx="10109520" cy="64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implement object-relational mapping for Chado database schema as legacy schem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what we then get for fre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ature MVC framework for fast web development on top of 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Rake tasks (a powerful tool for automating tasks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Capistrano (another powerful tool for deployment, automating tasks)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Powerful debugging (stop request in stack wherever you wan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Sophisticated testing su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 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Much more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BGD, Beebase, HymenopteraBase, other groups can build on thi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Rub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219320"/>
            <a:ext cx="96631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"Perl's younger prettier sister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syntactic sugar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, easy metaprogramming, pure object-oriented language, other sundry awesomen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 great 15 minute tutorial:</a:t>
            </a: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http://tryruby.org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A funny, longer tutorial:</a:t>
            </a:r>
            <a:br>
              <a:rPr sz="2700"/>
            </a:b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http://mislav.uniqpath.com/poignant-guide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Rails legacy database suppor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219320"/>
            <a:ext cx="967248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Rails paradigm: "convention over configuration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e.g. Model name "Feature" == table name "feature</a:t>
            </a:r>
            <a:r>
              <a:rPr b="1" lang="en-US" sz="2700" spc="-1" strike="noStrike" u="sng">
                <a:solidFill>
                  <a:srgbClr val="cccccc"/>
                </a:solidFill>
                <a:uFillTx/>
                <a:latin typeface="trebuchet ms"/>
              </a:rPr>
              <a:t>s</a:t>
            </a: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Chado doesn't follow Rails conven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e.g. Feature model == Chado table name "feature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cccc"/>
                </a:solidFill>
                <a:latin typeface="trebuchet ms"/>
              </a:rPr>
              <a:t>- Legacy support for Chado means overriding these conventions, explaining to Rails how to talk to Ch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eeeeee"/>
                </a:solidFill>
                <a:latin typeface="trebuchet ms"/>
              </a:rPr>
              <a:t>MVC paradig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828800" y="1320840"/>
            <a:ext cx="6377040" cy="371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280" y="4673520"/>
            <a:ext cx="1020780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Model - the representation of your data (doesn't change much after developmen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cc"/>
                </a:solidFill>
                <a:latin typeface="trebuchet ms"/>
              </a:rPr>
              <a:t>Controller</a:t>
            </a: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 - "business logic", i.e. the logic to retrieve and process information coming and going from view (changes more seldom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cccc"/>
                </a:solidFill>
                <a:latin typeface="trebuchet ms"/>
              </a:rPr>
              <a:t>View</a:t>
            </a:r>
            <a:r>
              <a:rPr b="0" lang="en-US" sz="1900" spc="-1" strike="noStrike">
                <a:solidFill>
                  <a:srgbClr val="cccccc"/>
                </a:solidFill>
                <a:latin typeface="trebuchet ms"/>
              </a:rPr>
              <a:t> - presentation of information to user (changes every 3 second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